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98F-88C3-4028-9E8E-A3079350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293-A9D7-46E3-A4C9-FA726F62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39A-B734-40D6-BB7B-9320CA64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9D5-4632-45B8-A086-D8FA5997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787-55E9-4EBE-A8E1-A9C374B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A4F-05A5-40B0-933E-45783E02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823-2BE6-4EA1-9D32-E280D531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A87-0848-438C-B8D5-33372FDE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4D0-98FC-4711-9371-5616A92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249-C28E-4FCE-8F2E-34D36E33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4D8-118A-458F-BA66-52225E4E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FD9-6D61-4435-8788-9BF7A045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4E1A-8196-4FEF-8D86-E7CA28F294D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380880"/>
            <a:ext cx="495324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нигата със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емте печат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91120" y="5867280"/>
            <a:ext cx="4600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5 глав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64480" y="431784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895480" y="1336680"/>
            <a:ext cx="36007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ристови притчи, Е.Вайт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504720" y="2286000"/>
            <a:ext cx="863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ffcc00"/>
                </a:solidFill>
                <a:latin typeface="Arial"/>
              </a:rPr>
              <a:t>“ </a:t>
            </a:r>
            <a:r>
              <a:rPr b="1" lang="bg-BG" sz="2700" spc="-1" strike="noStrike">
                <a:solidFill>
                  <a:srgbClr val="ffcc00"/>
                </a:solidFill>
                <a:latin typeface="Arial"/>
              </a:rPr>
              <a:t>Тяхното решение беше регистрирано в книгата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ffcc00"/>
                </a:solidFill>
                <a:latin typeface="Arial"/>
              </a:rPr>
              <a:t>която Йоан видя в ръката на седналия на трона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ffcc00"/>
                </a:solidFill>
                <a:latin typeface="Arial"/>
              </a:rPr>
              <a:t>която никой човек не можеше да отвор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ffcc00"/>
                </a:solidFill>
                <a:latin typeface="Arial"/>
              </a:rPr>
              <a:t>В цялата си отмъстителност това решени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ffcc00"/>
                </a:solidFill>
                <a:latin typeface="Arial"/>
              </a:rPr>
              <a:t>ще се яви пред тяхв деня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ffcc00"/>
                </a:solidFill>
                <a:latin typeface="Arial"/>
              </a:rPr>
              <a:t>когато книгата бъде разпечатана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089240" y="900000"/>
            <a:ext cx="2229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5:8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7600" y="152280"/>
            <a:ext cx="3738600" cy="279720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428640" y="2590920"/>
            <a:ext cx="524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 когато взе книга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четирите живи съществ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вадесетте и четири старц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паднаха пред Агне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ато всеки държеше арф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златни чаши пълни с темя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оито са молитвите на свети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819520" y="824040"/>
            <a:ext cx="2657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5:9,10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110160" y="1981080"/>
            <a:ext cx="529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9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пеят нова песен, думай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остоен си да вземеш книгат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а разпечаташ печатите 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защото си бил заклан, и съ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Своята кръв си изкуп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за Бога </a:t>
            </a: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човеци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от вся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племе, език, люде и на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направил си ги на нашия 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царство и свещениц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 те царуват на зем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420920" y="816120"/>
            <a:ext cx="2828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5:11,1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88920" y="2079720"/>
            <a:ext cx="745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11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видях и чух глас от много анг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около престола и живите същества и старц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(и числото им беше десетки хиляди по дес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хиляди и хиляди по хиляд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казваха с висок гла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остойно е Агне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оето е било закла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а приеме сила и богат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премъдрост и могъщ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почит, слава и благослов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352760" y="824040"/>
            <a:ext cx="28292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5:13,14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2898360" y="2003400"/>
            <a:ext cx="632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13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всяко създание, което е на небе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а земята и под земята и по мор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 всичко що има в тях, чух да казв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а Този, Който седи на престо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 на Агнето </a:t>
            </a: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да бъ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благословение и поч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слава и господ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о вечни век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14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четирите живи същества каза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Амин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 старците паднаха, та се поклони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99ff"/>
            </a:gs>
            <a:gs pos="100000">
              <a:srgbClr val="ff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914400"/>
            <a:ext cx="8559720" cy="1800360"/>
          </a:xfrm>
          <a:prstGeom prst="rect">
            <a:avLst/>
          </a:prstGeom>
          <a:gradFill rotWithShape="0">
            <a:gsLst>
              <a:gs pos="0">
                <a:srgbClr val="6600ff">
                  <a:alpha val="55294"/>
                </a:srgbClr>
              </a:gs>
              <a:gs pos="100000">
                <a:srgbClr val="5f00e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 Огнена река излизаше и течеше пред Не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милион служители Му слугувах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и милиарди по милиарди стояха пред Не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00"/>
                </a:solidFill>
                <a:latin typeface="Arial"/>
              </a:rPr>
              <a:t>съдилището се откри, и книгите се отвори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304920"/>
            <a:ext cx="2124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наил 7:1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3886200" cy="2914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038480" cy="3028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400560" y="817560"/>
            <a:ext cx="2867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лип.2:5,6,9-1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943600"/>
            <a:ext cx="9144000" cy="99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0520" y="1523880"/>
            <a:ext cx="770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майте в себе си същия ду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ойто беше и в Христа Ис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Който, като беше в Божия обр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пак не счете, че трябва твър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а държи равенството с Б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9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Затова и Бог го превъзвиш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 Му подари име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оето е над всяко друго и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така щото в Исусовото и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а се поклони всяко коляно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ебесните и земнит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подземните </a:t>
            </a: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същества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11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всеки език да изповяда,</a:t>
            </a:r>
            <a:r>
              <a:rPr b="1" lang="bg-BG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че Исус Христос е Господ, за слава на Бога От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3886200" cy="2914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038480" cy="3028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295280" y="1031760"/>
            <a:ext cx="3686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.Р. Биисли-Мюрей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52480" y="2362320"/>
            <a:ext cx="6762960" cy="2571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“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това отношение тези глави [4,5]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ставляват опорната точка на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нструкцията, която свързва цялат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нига, защото остатъкът от видението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 прилепва към тази конструкция.”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,с.108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724280" y="762120"/>
            <a:ext cx="2828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алатяни 1:3-5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1828800"/>
            <a:ext cx="50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Благодат и мир да бъ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а вас от Бога Отца и </a:t>
            </a: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ашия Господ Исус Христо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Който даде себе си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ашите грехове, за да 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збави от настоящия неч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свят {</a:t>
            </a: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Или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: Век.}* спор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волята на нашия Бог и От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Комуто </a:t>
            </a: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да бъде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слав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о вечни векове. А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911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362480" y="5111640"/>
            <a:ext cx="3562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НЕ и ЕЗДАЧ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280" y="95400"/>
            <a:ext cx="4991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едваща тема : 7 март 200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114800" y="797040"/>
            <a:ext cx="2486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5:1-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665520" y="1927080"/>
            <a:ext cx="540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видях в десницат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седящия на престола кни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аписана отвътре и отвъ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запечатана със седем печ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видях, че един силен анг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прогласяваше с висок гла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ой е достоен да разгъне Книг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 разпечата печатите 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никой, нито на небето, ни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а земята, </a:t>
            </a: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нито под земята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е можеше да разгъне книг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ито да я гл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114800" y="797040"/>
            <a:ext cx="2486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5:4,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920400" y="1905120"/>
            <a:ext cx="494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И аз плаках много, защ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икой не се намери досто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а разгъне книг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ито да я гл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Но един от старците ми каз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"Недей плака: ето лъвъ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ойто е от Юдовото пле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ойто еДавидовият ко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превъзмогна,за да разгъ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нигата и да разпеч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нейните седем печ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276200" y="5029200"/>
            <a:ext cx="6572520" cy="1714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л.4:3</a:t>
            </a:r>
            <a:endParaRPr b="0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...и с другите ми съработници,</a:t>
            </a:r>
            <a:endParaRPr b="0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иито имена са в книгата на живота."</a:t>
            </a:r>
            <a:endParaRPr b="0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905120" y="838080"/>
            <a:ext cx="22287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5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671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 видях между престола и четирите жи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същества между тях и старц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че </a:t>
            </a:r>
            <a:r>
              <a:rPr b="1" lang="bg-BG" sz="2400" spc="-1" strike="noStrike">
                <a:solidFill>
                  <a:srgbClr val="ff0066"/>
                </a:solidFill>
                <a:latin typeface="Arial"/>
              </a:rPr>
              <a:t>стоеше Агне като заклано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, което има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седем рога и седем очи, които 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седемте Божии духов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разпрат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по цялата земя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0:05:58Z</dcterms:created>
  <dc:creator>The Mind</dc:creator>
  <dc:description/>
  <dc:language>en-US</dc:language>
  <cp:lastModifiedBy>The Mind</cp:lastModifiedBy>
  <dcterms:modified xsi:type="dcterms:W3CDTF">2004-02-29T14:50:45Z</dcterms:modified>
  <cp:revision>23</cp:revision>
  <dc:subject/>
  <dc:title>Slide 1</dc:title>
</cp:coreProperties>
</file>